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51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4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55.xml.rels" ContentType="application/vnd.openxmlformats-package.relationships+xml"/>
  <Override PartName="/ppt/slides/_rels/slide144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56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  <p:sldId id="294" r:id="rId57"/>
    <p:sldId id="295" r:id="rId58"/>
    <p:sldId id="296" r:id="rId59"/>
    <p:sldId id="297" r:id="rId60"/>
    <p:sldId id="298" r:id="rId61"/>
    <p:sldId id="299" r:id="rId62"/>
    <p:sldId id="300" r:id="rId63"/>
    <p:sldId id="301" r:id="rId64"/>
    <p:sldId id="302" r:id="rId65"/>
    <p:sldId id="303" r:id="rId66"/>
    <p:sldId id="304" r:id="rId67"/>
    <p:sldId id="305" r:id="rId68"/>
    <p:sldId id="306" r:id="rId69"/>
    <p:sldId id="307" r:id="rId70"/>
    <p:sldId id="308" r:id="rId71"/>
    <p:sldId id="309" r:id="rId72"/>
    <p:sldId id="310" r:id="rId73"/>
    <p:sldId id="311" r:id="rId74"/>
    <p:sldId id="312" r:id="rId75"/>
    <p:sldId id="313" r:id="rId76"/>
    <p:sldId id="314" r:id="rId77"/>
    <p:sldId id="315" r:id="rId78"/>
    <p:sldId id="316" r:id="rId79"/>
    <p:sldId id="317" r:id="rId80"/>
    <p:sldId id="318" r:id="rId81"/>
    <p:sldId id="319" r:id="rId82"/>
    <p:sldId id="320" r:id="rId83"/>
    <p:sldId id="321" r:id="rId84"/>
    <p:sldId id="322" r:id="rId85"/>
    <p:sldId id="323" r:id="rId86"/>
    <p:sldId id="324" r:id="rId87"/>
    <p:sldId id="325" r:id="rId88"/>
    <p:sldId id="326" r:id="rId89"/>
    <p:sldId id="327" r:id="rId90"/>
    <p:sldId id="328" r:id="rId91"/>
    <p:sldId id="329" r:id="rId92"/>
    <p:sldId id="330" r:id="rId93"/>
    <p:sldId id="331" r:id="rId94"/>
    <p:sldId id="332" r:id="rId95"/>
    <p:sldId id="333" r:id="rId96"/>
    <p:sldId id="334" r:id="rId97"/>
    <p:sldId id="335" r:id="rId98"/>
    <p:sldId id="336" r:id="rId99"/>
    <p:sldId id="337" r:id="rId100"/>
    <p:sldId id="338" r:id="rId101"/>
    <p:sldId id="339" r:id="rId102"/>
    <p:sldId id="340" r:id="rId103"/>
    <p:sldId id="341" r:id="rId104"/>
    <p:sldId id="342" r:id="rId105"/>
    <p:sldId id="343" r:id="rId106"/>
    <p:sldId id="344" r:id="rId107"/>
    <p:sldId id="345" r:id="rId108"/>
    <p:sldId id="346" r:id="rId109"/>
    <p:sldId id="347" r:id="rId110"/>
    <p:sldId id="348" r:id="rId111"/>
    <p:sldId id="349" r:id="rId112"/>
    <p:sldId id="350" r:id="rId113"/>
    <p:sldId id="351" r:id="rId114"/>
    <p:sldId id="352" r:id="rId115"/>
    <p:sldId id="353" r:id="rId116"/>
    <p:sldId id="354" r:id="rId117"/>
    <p:sldId id="355" r:id="rId118"/>
    <p:sldId id="356" r:id="rId119"/>
    <p:sldId id="357" r:id="rId120"/>
    <p:sldId id="358" r:id="rId121"/>
    <p:sldId id="359" r:id="rId122"/>
    <p:sldId id="360" r:id="rId123"/>
    <p:sldId id="361" r:id="rId124"/>
    <p:sldId id="362" r:id="rId125"/>
    <p:sldId id="363" r:id="rId126"/>
    <p:sldId id="364" r:id="rId127"/>
    <p:sldId id="365" r:id="rId128"/>
    <p:sldId id="366" r:id="rId129"/>
    <p:sldId id="367" r:id="rId130"/>
    <p:sldId id="368" r:id="rId131"/>
    <p:sldId id="369" r:id="rId132"/>
    <p:sldId id="370" r:id="rId133"/>
    <p:sldId id="371" r:id="rId134"/>
    <p:sldId id="372" r:id="rId135"/>
    <p:sldId id="373" r:id="rId136"/>
    <p:sldId id="374" r:id="rId137"/>
    <p:sldId id="375" r:id="rId138"/>
    <p:sldId id="376" r:id="rId139"/>
    <p:sldId id="377" r:id="rId140"/>
    <p:sldId id="378" r:id="rId141"/>
    <p:sldId id="379" r:id="rId142"/>
    <p:sldId id="380" r:id="rId143"/>
    <p:sldId id="381" r:id="rId144"/>
    <p:sldId id="382" r:id="rId145"/>
    <p:sldId id="383" r:id="rId146"/>
    <p:sldId id="384" r:id="rId147"/>
    <p:sldId id="385" r:id="rId148"/>
    <p:sldId id="386" r:id="rId149"/>
    <p:sldId id="387" r:id="rId150"/>
    <p:sldId id="388" r:id="rId151"/>
    <p:sldId id="389" r:id="rId152"/>
    <p:sldId id="390" r:id="rId153"/>
    <p:sldId id="391" r:id="rId154"/>
    <p:sldId id="392" r:id="rId155"/>
    <p:sldId id="393" r:id="rId156"/>
    <p:sldId id="394" r:id="rId157"/>
    <p:sldId id="395" r:id="rId158"/>
    <p:sldId id="396" r:id="rId159"/>
    <p:sldId id="397" r:id="rId160"/>
    <p:sldId id="398" r:id="rId161"/>
    <p:sldId id="399" r:id="rId162"/>
    <p:sldId id="400" r:id="rId163"/>
    <p:sldId id="401" r:id="rId164"/>
    <p:sldId id="402" r:id="rId165"/>
    <p:sldId id="403" r:id="rId166"/>
    <p:sldId id="404" r:id="rId167"/>
    <p:sldId id="405" r:id="rId168"/>
    <p:sldId id="406" r:id="rId1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slide" Target="slides/slide39.xml"/><Relationship Id="rId58" Type="http://schemas.openxmlformats.org/officeDocument/2006/relationships/slide" Target="slides/slide40.xml"/><Relationship Id="rId59" Type="http://schemas.openxmlformats.org/officeDocument/2006/relationships/slide" Target="slides/slide41.xml"/><Relationship Id="rId60" Type="http://schemas.openxmlformats.org/officeDocument/2006/relationships/slide" Target="slides/slide42.xml"/><Relationship Id="rId61" Type="http://schemas.openxmlformats.org/officeDocument/2006/relationships/slide" Target="slides/slide43.xml"/><Relationship Id="rId62" Type="http://schemas.openxmlformats.org/officeDocument/2006/relationships/slide" Target="slides/slide44.xml"/><Relationship Id="rId63" Type="http://schemas.openxmlformats.org/officeDocument/2006/relationships/slide" Target="slides/slide45.xml"/><Relationship Id="rId64" Type="http://schemas.openxmlformats.org/officeDocument/2006/relationships/slide" Target="slides/slide46.xml"/><Relationship Id="rId65" Type="http://schemas.openxmlformats.org/officeDocument/2006/relationships/slide" Target="slides/slide47.xml"/><Relationship Id="rId66" Type="http://schemas.openxmlformats.org/officeDocument/2006/relationships/slide" Target="slides/slide48.xml"/><Relationship Id="rId67" Type="http://schemas.openxmlformats.org/officeDocument/2006/relationships/slide" Target="slides/slide49.xml"/><Relationship Id="rId68" Type="http://schemas.openxmlformats.org/officeDocument/2006/relationships/slide" Target="slides/slide50.xml"/><Relationship Id="rId69" Type="http://schemas.openxmlformats.org/officeDocument/2006/relationships/slide" Target="slides/slide51.xml"/><Relationship Id="rId70" Type="http://schemas.openxmlformats.org/officeDocument/2006/relationships/slide" Target="slides/slide52.xml"/><Relationship Id="rId71" Type="http://schemas.openxmlformats.org/officeDocument/2006/relationships/slide" Target="slides/slide53.xml"/><Relationship Id="rId72" Type="http://schemas.openxmlformats.org/officeDocument/2006/relationships/slide" Target="slides/slide54.xml"/><Relationship Id="rId73" Type="http://schemas.openxmlformats.org/officeDocument/2006/relationships/slide" Target="slides/slide55.xml"/><Relationship Id="rId74" Type="http://schemas.openxmlformats.org/officeDocument/2006/relationships/slide" Target="slides/slide56.xml"/><Relationship Id="rId75" Type="http://schemas.openxmlformats.org/officeDocument/2006/relationships/slide" Target="slides/slide57.xml"/><Relationship Id="rId76" Type="http://schemas.openxmlformats.org/officeDocument/2006/relationships/slide" Target="slides/slide58.xml"/><Relationship Id="rId77" Type="http://schemas.openxmlformats.org/officeDocument/2006/relationships/slide" Target="slides/slide59.xml"/><Relationship Id="rId78" Type="http://schemas.openxmlformats.org/officeDocument/2006/relationships/slide" Target="slides/slide60.xml"/><Relationship Id="rId79" Type="http://schemas.openxmlformats.org/officeDocument/2006/relationships/slide" Target="slides/slide61.xml"/><Relationship Id="rId80" Type="http://schemas.openxmlformats.org/officeDocument/2006/relationships/slide" Target="slides/slide62.xml"/><Relationship Id="rId81" Type="http://schemas.openxmlformats.org/officeDocument/2006/relationships/slide" Target="slides/slide63.xml"/><Relationship Id="rId82" Type="http://schemas.openxmlformats.org/officeDocument/2006/relationships/slide" Target="slides/slide64.xml"/><Relationship Id="rId83" Type="http://schemas.openxmlformats.org/officeDocument/2006/relationships/slide" Target="slides/slide65.xml"/><Relationship Id="rId84" Type="http://schemas.openxmlformats.org/officeDocument/2006/relationships/slide" Target="slides/slide66.xml"/><Relationship Id="rId85" Type="http://schemas.openxmlformats.org/officeDocument/2006/relationships/slide" Target="slides/slide67.xml"/><Relationship Id="rId86" Type="http://schemas.openxmlformats.org/officeDocument/2006/relationships/slide" Target="slides/slide68.xml"/><Relationship Id="rId87" Type="http://schemas.openxmlformats.org/officeDocument/2006/relationships/slide" Target="slides/slide69.xml"/><Relationship Id="rId88" Type="http://schemas.openxmlformats.org/officeDocument/2006/relationships/slide" Target="slides/slide70.xml"/><Relationship Id="rId89" Type="http://schemas.openxmlformats.org/officeDocument/2006/relationships/slide" Target="slides/slide71.xml"/><Relationship Id="rId90" Type="http://schemas.openxmlformats.org/officeDocument/2006/relationships/slide" Target="slides/slide72.xml"/><Relationship Id="rId91" Type="http://schemas.openxmlformats.org/officeDocument/2006/relationships/slide" Target="slides/slide73.xml"/><Relationship Id="rId92" Type="http://schemas.openxmlformats.org/officeDocument/2006/relationships/slide" Target="slides/slide74.xml"/><Relationship Id="rId93" Type="http://schemas.openxmlformats.org/officeDocument/2006/relationships/slide" Target="slides/slide75.xml"/><Relationship Id="rId94" Type="http://schemas.openxmlformats.org/officeDocument/2006/relationships/slide" Target="slides/slide76.xml"/><Relationship Id="rId95" Type="http://schemas.openxmlformats.org/officeDocument/2006/relationships/slide" Target="slides/slide77.xml"/><Relationship Id="rId96" Type="http://schemas.openxmlformats.org/officeDocument/2006/relationships/slide" Target="slides/slide78.xml"/><Relationship Id="rId97" Type="http://schemas.openxmlformats.org/officeDocument/2006/relationships/slide" Target="slides/slide79.xml"/><Relationship Id="rId98" Type="http://schemas.openxmlformats.org/officeDocument/2006/relationships/slide" Target="slides/slide80.xml"/><Relationship Id="rId99" Type="http://schemas.openxmlformats.org/officeDocument/2006/relationships/slide" Target="slides/slide81.xml"/><Relationship Id="rId100" Type="http://schemas.openxmlformats.org/officeDocument/2006/relationships/slide" Target="slides/slide82.xml"/><Relationship Id="rId101" Type="http://schemas.openxmlformats.org/officeDocument/2006/relationships/slide" Target="slides/slide83.xml"/><Relationship Id="rId102" Type="http://schemas.openxmlformats.org/officeDocument/2006/relationships/slide" Target="slides/slide84.xml"/><Relationship Id="rId103" Type="http://schemas.openxmlformats.org/officeDocument/2006/relationships/slide" Target="slides/slide85.xml"/><Relationship Id="rId104" Type="http://schemas.openxmlformats.org/officeDocument/2006/relationships/slide" Target="slides/slide86.xml"/><Relationship Id="rId105" Type="http://schemas.openxmlformats.org/officeDocument/2006/relationships/slide" Target="slides/slide87.xml"/><Relationship Id="rId106" Type="http://schemas.openxmlformats.org/officeDocument/2006/relationships/slide" Target="slides/slide88.xml"/><Relationship Id="rId107" Type="http://schemas.openxmlformats.org/officeDocument/2006/relationships/slide" Target="slides/slide89.xml"/><Relationship Id="rId108" Type="http://schemas.openxmlformats.org/officeDocument/2006/relationships/slide" Target="slides/slide90.xml"/><Relationship Id="rId109" Type="http://schemas.openxmlformats.org/officeDocument/2006/relationships/slide" Target="slides/slide91.xml"/><Relationship Id="rId110" Type="http://schemas.openxmlformats.org/officeDocument/2006/relationships/slide" Target="slides/slide92.xml"/><Relationship Id="rId111" Type="http://schemas.openxmlformats.org/officeDocument/2006/relationships/slide" Target="slides/slide93.xml"/><Relationship Id="rId112" Type="http://schemas.openxmlformats.org/officeDocument/2006/relationships/slide" Target="slides/slide94.xml"/><Relationship Id="rId113" Type="http://schemas.openxmlformats.org/officeDocument/2006/relationships/slide" Target="slides/slide95.xml"/><Relationship Id="rId114" Type="http://schemas.openxmlformats.org/officeDocument/2006/relationships/slide" Target="slides/slide96.xml"/><Relationship Id="rId115" Type="http://schemas.openxmlformats.org/officeDocument/2006/relationships/slide" Target="slides/slide97.xml"/><Relationship Id="rId116" Type="http://schemas.openxmlformats.org/officeDocument/2006/relationships/slide" Target="slides/slide98.xml"/><Relationship Id="rId117" Type="http://schemas.openxmlformats.org/officeDocument/2006/relationships/slide" Target="slides/slide99.xml"/><Relationship Id="rId118" Type="http://schemas.openxmlformats.org/officeDocument/2006/relationships/slide" Target="slides/slide100.xml"/><Relationship Id="rId119" Type="http://schemas.openxmlformats.org/officeDocument/2006/relationships/slide" Target="slides/slide101.xml"/><Relationship Id="rId120" Type="http://schemas.openxmlformats.org/officeDocument/2006/relationships/slide" Target="slides/slide102.xml"/><Relationship Id="rId121" Type="http://schemas.openxmlformats.org/officeDocument/2006/relationships/slide" Target="slides/slide103.xml"/><Relationship Id="rId122" Type="http://schemas.openxmlformats.org/officeDocument/2006/relationships/slide" Target="slides/slide104.xml"/><Relationship Id="rId123" Type="http://schemas.openxmlformats.org/officeDocument/2006/relationships/slide" Target="slides/slide105.xml"/><Relationship Id="rId124" Type="http://schemas.openxmlformats.org/officeDocument/2006/relationships/slide" Target="slides/slide106.xml"/><Relationship Id="rId125" Type="http://schemas.openxmlformats.org/officeDocument/2006/relationships/slide" Target="slides/slide107.xml"/><Relationship Id="rId126" Type="http://schemas.openxmlformats.org/officeDocument/2006/relationships/slide" Target="slides/slide108.xml"/><Relationship Id="rId127" Type="http://schemas.openxmlformats.org/officeDocument/2006/relationships/slide" Target="slides/slide109.xml"/><Relationship Id="rId128" Type="http://schemas.openxmlformats.org/officeDocument/2006/relationships/slide" Target="slides/slide110.xml"/><Relationship Id="rId129" Type="http://schemas.openxmlformats.org/officeDocument/2006/relationships/slide" Target="slides/slide111.xml"/><Relationship Id="rId130" Type="http://schemas.openxmlformats.org/officeDocument/2006/relationships/slide" Target="slides/slide112.xml"/><Relationship Id="rId131" Type="http://schemas.openxmlformats.org/officeDocument/2006/relationships/slide" Target="slides/slide113.xml"/><Relationship Id="rId132" Type="http://schemas.openxmlformats.org/officeDocument/2006/relationships/slide" Target="slides/slide114.xml"/><Relationship Id="rId133" Type="http://schemas.openxmlformats.org/officeDocument/2006/relationships/slide" Target="slides/slide115.xml"/><Relationship Id="rId134" Type="http://schemas.openxmlformats.org/officeDocument/2006/relationships/slide" Target="slides/slide116.xml"/><Relationship Id="rId135" Type="http://schemas.openxmlformats.org/officeDocument/2006/relationships/slide" Target="slides/slide117.xml"/><Relationship Id="rId136" Type="http://schemas.openxmlformats.org/officeDocument/2006/relationships/slide" Target="slides/slide118.xml"/><Relationship Id="rId137" Type="http://schemas.openxmlformats.org/officeDocument/2006/relationships/slide" Target="slides/slide119.xml"/><Relationship Id="rId138" Type="http://schemas.openxmlformats.org/officeDocument/2006/relationships/slide" Target="slides/slide120.xml"/><Relationship Id="rId139" Type="http://schemas.openxmlformats.org/officeDocument/2006/relationships/slide" Target="slides/slide121.xml"/><Relationship Id="rId140" Type="http://schemas.openxmlformats.org/officeDocument/2006/relationships/slide" Target="slides/slide122.xml"/><Relationship Id="rId141" Type="http://schemas.openxmlformats.org/officeDocument/2006/relationships/slide" Target="slides/slide123.xml"/><Relationship Id="rId142" Type="http://schemas.openxmlformats.org/officeDocument/2006/relationships/slide" Target="slides/slide124.xml"/><Relationship Id="rId143" Type="http://schemas.openxmlformats.org/officeDocument/2006/relationships/slide" Target="slides/slide125.xml"/><Relationship Id="rId144" Type="http://schemas.openxmlformats.org/officeDocument/2006/relationships/slide" Target="slides/slide126.xml"/><Relationship Id="rId145" Type="http://schemas.openxmlformats.org/officeDocument/2006/relationships/slide" Target="slides/slide127.xml"/><Relationship Id="rId146" Type="http://schemas.openxmlformats.org/officeDocument/2006/relationships/slide" Target="slides/slide128.xml"/><Relationship Id="rId147" Type="http://schemas.openxmlformats.org/officeDocument/2006/relationships/slide" Target="slides/slide129.xml"/><Relationship Id="rId148" Type="http://schemas.openxmlformats.org/officeDocument/2006/relationships/slide" Target="slides/slide130.xml"/><Relationship Id="rId149" Type="http://schemas.openxmlformats.org/officeDocument/2006/relationships/slide" Target="slides/slide131.xml"/><Relationship Id="rId150" Type="http://schemas.openxmlformats.org/officeDocument/2006/relationships/slide" Target="slides/slide132.xml"/><Relationship Id="rId151" Type="http://schemas.openxmlformats.org/officeDocument/2006/relationships/slide" Target="slides/slide133.xml"/><Relationship Id="rId152" Type="http://schemas.openxmlformats.org/officeDocument/2006/relationships/slide" Target="slides/slide134.xml"/><Relationship Id="rId153" Type="http://schemas.openxmlformats.org/officeDocument/2006/relationships/slide" Target="slides/slide135.xml"/><Relationship Id="rId154" Type="http://schemas.openxmlformats.org/officeDocument/2006/relationships/slide" Target="slides/slide136.xml"/><Relationship Id="rId155" Type="http://schemas.openxmlformats.org/officeDocument/2006/relationships/slide" Target="slides/slide137.xml"/><Relationship Id="rId156" Type="http://schemas.openxmlformats.org/officeDocument/2006/relationships/slide" Target="slides/slide138.xml"/><Relationship Id="rId157" Type="http://schemas.openxmlformats.org/officeDocument/2006/relationships/slide" Target="slides/slide139.xml"/><Relationship Id="rId158" Type="http://schemas.openxmlformats.org/officeDocument/2006/relationships/slide" Target="slides/slide140.xml"/><Relationship Id="rId159" Type="http://schemas.openxmlformats.org/officeDocument/2006/relationships/slide" Target="slides/slide141.xml"/><Relationship Id="rId160" Type="http://schemas.openxmlformats.org/officeDocument/2006/relationships/slide" Target="slides/slide142.xml"/><Relationship Id="rId161" Type="http://schemas.openxmlformats.org/officeDocument/2006/relationships/slide" Target="slides/slide143.xml"/><Relationship Id="rId162" Type="http://schemas.openxmlformats.org/officeDocument/2006/relationships/slide" Target="slides/slide144.xml"/><Relationship Id="rId163" Type="http://schemas.openxmlformats.org/officeDocument/2006/relationships/slide" Target="slides/slide145.xml"/><Relationship Id="rId164" Type="http://schemas.openxmlformats.org/officeDocument/2006/relationships/slide" Target="slides/slide146.xml"/><Relationship Id="rId165" Type="http://schemas.openxmlformats.org/officeDocument/2006/relationships/slide" Target="slides/slide147.xml"/><Relationship Id="rId166" Type="http://schemas.openxmlformats.org/officeDocument/2006/relationships/slide" Target="slides/slide148.xml"/><Relationship Id="rId167" Type="http://schemas.openxmlformats.org/officeDocument/2006/relationships/slide" Target="slides/slide149.xml"/><Relationship Id="rId168" Type="http://schemas.openxmlformats.org/officeDocument/2006/relationships/slide" Target="slides/slide150.xml"/><Relationship Id="rId169" Type="http://schemas.openxmlformats.org/officeDocument/2006/relationships/slide" Target="slides/slide151.xml"/><Relationship Id="rId1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D294-E357-46C6-A686-9B90134DC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17E7-B6D8-4B19-8A48-B7FE3138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CA4B9-638A-4E45-BC4E-32FFE1C5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E3FAE-5A71-4F51-B0A3-AE5E026D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F5C1F8-4B63-4F9F-ADAB-622EF3C7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F70621-5EB1-4F39-AA34-A06FD57C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C44D06-3165-4F5D-9FA9-042546A4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23DC6-87D6-4BD8-9C03-DD1610E0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098BB7-9141-4318-B4EB-2B39A21A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35C6B-3311-470F-9F26-876E4AF23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1D8E7-2C8C-400C-8839-EBE1E240A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0D302F-2A66-46D4-8683-9E79C7AB8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A7F2-D00A-4A6A-A8B5-0CCBFA5EC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A4AA9-38AB-4EEF-B082-084D377F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FE4686-EE94-47D9-8461-5E4DA685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3F94E-5DF5-4E58-9679-A73D8996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F5E610-B526-4FD6-820A-3A1967E0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B7805C-D05A-4D99-B29E-3199D698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F59C0D-80C4-4798-A3CD-60CAE4B2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6C86B0-352F-41E5-925B-E20D71EC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18476-F94C-4CBE-8612-CDD5D82B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1745B-DBA7-4FAA-96F8-130D7D92C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8A6C83-44F2-4683-9D94-2A7D70D12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94AF-9FFE-4D6E-BDCB-A52F954B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59FABE-DD24-4E94-ABF4-1943B6894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35BE7-AE39-4E25-BFC3-0BA5AC2F0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4BB351-A31A-4E76-9383-CD7FFE5C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A722C-DB1C-4E9B-B891-B388CDFA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56974C-52C5-4F2F-B866-BF7F9385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3495C8-9172-493B-8ECA-3D1994DC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43858-125A-4124-98CA-9B7ED02FD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4F0316-9CEB-4D5D-B6A7-58018063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82C7C-5A74-4FE1-B2D6-21F6DDF2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5773A-F728-4BF9-AD11-7A45D3DD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345D0-3378-436A-973B-77BF38D95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F3C7A-6874-4A61-8A50-9C6A903D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E10BA-45AA-4F44-A0B8-68C91A86B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EAA5E-A34C-41BC-8897-A9CD571E6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E1A2E6-9113-44BA-ABCC-F0EF73E9E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6A989-55B8-4E88-B442-2557FECE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9CCA20-977A-48C3-B57A-AB337A05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FAB6F-8FE7-4181-920D-F4513255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7240AD-AB30-43A1-8ACA-485836F8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AA3DC7-DBDE-47AB-8C97-38F66A7C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E7F8AE-E4D9-4C87-B093-26999D95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4FB42-A140-49E2-B14A-C87084D1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391FEA-30BA-42BC-A283-61BDBDEC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348B12-E7BC-426E-BCE7-00AFB8D9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D215BA-10E5-43E7-9D7E-06449A68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BC5948-0136-46EE-B832-D6FD80957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A844EA-4EAE-421F-A95B-2BB114F23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27EE60-D89A-431B-A03A-1AC1835AE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4433D9-0C1B-4BB0-A5B0-DB938208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76BCBC-BEE3-4AB6-A955-9188B68A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6DAEC6-F03E-467E-A9B7-AB2CA14C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D8B481-514A-43E0-9491-F35045C5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8862-D8C8-4BC2-B29C-7AC68D37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9603DA-AC97-4D7B-9EFB-E4865C38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38820C-98B4-467C-BE34-F6371E4B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0EBCA2-AC09-4D87-B0B5-B177512D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D0D78C-D3CF-4BC2-842B-B8F832AE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B99702-13CD-4476-BA13-7F2F7F76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0CA406-F2DF-4E49-8150-2A715AC0A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1B9337-0C80-41F6-8661-FDD72E1CB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A0E042-204E-4E5E-991B-9964C1F8F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A331A7-AE6E-4535-AD3C-6DCE6CE5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4CE7A3-D385-4D15-A3AC-0DEE5DB1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0EEA0-7A52-4055-AD15-2A54E2E7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30001B-F902-4CD9-A77C-0E726FF6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DE374A-EF6E-4A97-B2CE-8AC896DC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CF62B1-6826-420B-9179-E37EC2E6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FE8B2A-D67D-4533-AC8D-52269464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632C67-B65B-411F-921F-8A2C3E72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E15E9C-4905-4DE6-9001-85EDAA71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EE26F3-A7FF-44F8-B088-AFDB6018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A2A96F-EFBA-4471-ABC7-B3BB55002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56AB4A-188A-4564-8C77-7B907F0D5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B3E1B4-4904-4F68-A52D-326488978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083E-4053-41D6-9384-70BCA07D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A27BB6-82D0-41B6-B352-ACE00C7C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F534B5-30CD-4FB1-9CD0-BF76F4E2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F68501-4138-44F2-A1B6-6792FDE3F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F8577A-0294-47BE-A02D-27C7905B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570388-EBB9-4D51-A8F1-AE67E384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C0D5C2-1B6B-453D-8C50-F791B741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574080-8425-48BC-89CD-2A1DF026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957A58-4B74-4E1C-B059-03C73E2B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FC7A3E-A2A4-4AFA-8A7F-D53829E4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28F589-0A40-4328-AF16-DDCDE0FD6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B3F6-728C-4EC3-BC1C-45E1C399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230819-C75C-4C0E-A745-F25A24EA3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25C1D8-7CBE-402C-BD63-E4A1D23A4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28A0AE-6F70-44D2-BA49-A7423A735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50D84C-7C53-40F1-8028-0381E8DB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50F2EC-6CF5-4404-8B91-B2D17EBD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33AA9A-9BBC-4ED8-B0C8-67F4B090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59FD47-00EF-4B37-BD93-4944C694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A44499-A9F3-4E42-A930-4F171E71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851422-702E-46B7-A393-7684A46E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B0688E-C293-4860-91D8-CC7F7254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60A6-EF89-4636-9118-45ABC37B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29F23C-BA80-4375-B3AF-0740DC2B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BAC3FC-2EB6-4840-91C9-B0FC05C49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3D5DBE-B037-4021-AF0F-43EF79606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05938B-AB82-4709-A634-E47E8BF99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31FB39-4654-46D4-8613-7C85F8A0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2DFD8E-F11E-472D-B66D-C4154A52B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0ABF20-5C05-4405-BFBF-58C0C775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8CBC26-7331-4510-B963-AD435A1F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B53251-4024-4E32-8097-184D1E13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0383C2-305D-402B-80D1-6702B9A1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9943-326E-44E5-A27C-0710A20F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4B28-96CB-4BF8-9587-6FE6EBC5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ABAA1B-5750-4835-836B-3AC5F85F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6B7E1E-99FC-4B0B-B0EF-31590179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F2CDC7-A0A6-4C3B-A50B-F9C4345B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AEDD29-FE99-45E4-9D59-7D5CE04F3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A5320D-D0F6-4147-B50E-F03A7691E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16C4-EAB3-4235-AE32-AAFD2082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23C0-7F40-49D5-B194-98971ED5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3446-0C9F-4E39-9370-0A2EA3778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E25C-CF5F-437A-85DA-0D0E2A085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4534B-8EA0-417D-82E7-4515C32C9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DAA28-79B8-47B7-9A53-012C696B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F13D3-E104-47B9-ACFE-A14C040D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00B2B-B312-4D47-8088-3C3C1D69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70AF0-A307-4F50-A0B4-20E35436F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1E89-11B7-4305-A3F8-2322FB86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E051B-76A4-4EBA-ACBA-3BF3D40D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A9FA6-6080-4AFF-9BD7-2E50144E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0EC5C-7F14-4938-BCAE-BD778F5E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179C0-BF5F-46A0-8945-1EE66192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FD2DC-2272-48C3-95C8-A072595C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BF6FF-CD0B-4D76-9534-778757327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0DCC2-757E-42B6-981D-A90603D37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7B4EC-A4F1-4365-BEE2-03EB74978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7DEA8-363E-4127-AE23-6BD2F379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C1A36-331F-431A-827D-49B57F5A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01CA-FBC0-4183-AD31-5B079051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F6991-D9C6-4064-AFEB-E8135D89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F8594-3485-4BAD-9228-12A14FC0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595B7-8806-4CE5-ABF8-13B2B3FA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715C5-7077-40A8-83BB-3DEA6B27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47CFA-A139-4866-B77F-4AF8EAD6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A8953-E15D-4686-B6B2-3979D8EC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C4872-8791-4C41-8E2C-A0C380D9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F8498-57F4-4DF8-82CB-066B35C86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36FC8-6BBD-4410-A8F3-78DE2CCE8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9BE7A-6A85-4D46-BF24-467CB594B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0448-5FD2-443F-9540-61DE5082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11F86-D005-4C35-9249-23FC1E5D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939D4-D52B-4C33-80F9-8CAF6DF3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60909-2A7E-4881-8436-E13EF3E6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ECB43-3815-499F-8E75-0512D122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24638-4EB3-45A7-9559-E82C9AF4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21310-3C36-484A-81A4-AC40E496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58EC4-0C8E-4F8B-9C48-2DDB0C68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E639D-2D7A-42DE-89F5-08A26463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F1B57-6FF1-4C40-A57B-D39F2F45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F57FB-63C8-4845-B3F9-5DE8B8D69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0820-4A01-4BF8-9C9F-E379AD77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3134C-E652-4F75-A0B3-61627EE77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7276A-A5F7-4932-B048-F2A65CCBB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F4D90-59FF-4981-BFD2-2D8640DC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F15D7-2D4D-4601-8492-26F40970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3E879-2CA6-40AC-97C1-8E685801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5FD6B-114A-4097-BFCF-6DD93732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FD82A-AB61-46C7-8B51-4FAF39EE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716AB-CFE1-40A0-ACE2-3C2BDA0A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7F911-426F-4D67-A67F-6260B280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97273-1DC2-47E7-9E82-6C7BE464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A685-309D-4EE9-B85A-BD82861A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1E216-175C-45CC-9830-881A0AF6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E5A67-AAC7-4630-BB94-C78336B57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0DDAC-49EB-4ED6-89E6-4CAF1960C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2FEB9-312A-4669-8D87-593E95D01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D725F-A607-4A5E-AF15-732B3201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247B6-FD47-41C1-9AEB-6728577A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7CDA3-6020-40F5-ADB3-2C9468183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B26F05-8B38-43A0-AF81-784D808F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83807-3013-44B2-9E78-E6DCF30F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A6919-A754-4C57-BCA6-93FAC622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A305-6FD1-45C1-A116-6B0E2C36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2FF32-35F0-4483-8E40-AA8AE223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52BB7-FA9D-48D8-A975-ED2AA107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CAC00-E7C7-4CE1-AA0C-6CD09CCE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DE62A-E728-47E5-866C-186EDE01D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CF46A-57EF-4567-87F4-5C08F046E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96A2E-52D9-4697-89D8-956D09723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CDCB6-1048-4452-968F-F6ACB0D7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F7D70-BFA1-420C-A9BE-29207D2D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E8E46-8B4B-4EA9-9707-2E904945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371D6-06D8-4AD5-99F0-6BC49A316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A493-866B-432B-B790-06BB9A7A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D562F-0ED6-43C3-8059-248C4DC0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0A229-49FC-4FEE-B174-988732B1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524FA-C2CC-453E-ABFF-EDE23557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FE972-694A-458F-B6DC-F300C880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5EFF6-F5E2-48F3-9935-05E77CCC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1C155-DD91-4F67-98E6-D9380A9B4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43DE5-C5D4-4053-B2E7-9BE1389FA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F1860-4C52-48D7-BAF4-49B0BE116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8F8FD-C8B4-4F67-B88A-A2E58BF47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5BB45-3A8F-4A7B-BE3E-26A2F9FB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D7B5-34E3-445B-8BBA-A62B809B5A62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25D1-0EBD-4A9F-8617-5578930EC008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445F-82A3-4055-8753-38632AE166CC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13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14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D745-8EDF-4EBD-A77D-023D6957D5BB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9F34-9EC8-4290-A478-A64D40068A52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10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11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EB23-0895-4568-99CC-96FA4A4F80F6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8B14-355A-4B8F-A3CD-F312E28116ED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7E87-B6A1-45CF-A9A0-2076AF37B2AE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194C-367C-44BB-8AA7-8BEB9D4A7BC5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DAA5-6F62-4486-A8BF-9160088B622A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70318-A550-4CE5-A46E-4DC2F315C3E8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9C7E-0226-44E7-8544-BC51ED674D4F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662B-EC4E-40C6-B65D-34B4A988E7E6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354E-14E5-4AA0-8B0C-5DBCC3CFEA91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8D21-75E3-4EF7-9049-65D2CE5ECD5A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914C-1412-4873-BB6A-38DC38D4DF62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A916-8E60-421C-9F63-D63F2B80A27F}" type="slidenum">
              <a:rPr b="0" lang="es-E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1440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5500" spc="-1" strike="noStrike">
                <a:solidFill>
                  <a:srgbClr val="000000"/>
                </a:solidFill>
                <a:latin typeface="Bernard MT Condensed"/>
              </a:rPr>
              <a:t> </a:t>
            </a:r>
            <a:r>
              <a:rPr b="0" lang="es-ES" sz="18600" spc="-1" strike="noStrike">
                <a:solidFill>
                  <a:srgbClr val="000000"/>
                </a:solidFill>
                <a:latin typeface="Century Gothic"/>
              </a:rPr>
              <a:t>AMOR</a:t>
            </a:r>
            <a:r>
              <a:rPr b="1" lang="es-ES" sz="155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1" lang="es-ES" sz="12900" spc="-1" strike="noStrike">
                <a:solidFill>
                  <a:srgbClr val="000000"/>
                </a:solidFill>
                <a:latin typeface="Andalus"/>
                <a:ea typeface="Andalus"/>
              </a:rPr>
              <a:t>SUPREMO</a:t>
            </a:r>
            <a:br>
              <a:rPr sz="15500"/>
            </a:br>
            <a:endParaRPr b="0" lang="en-US" sz="129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ángulo 1"/>
          <p:cNvSpPr/>
          <p:nvPr/>
        </p:nvSpPr>
        <p:spPr>
          <a:xfrm>
            <a:off x="324000" y="1197000"/>
            <a:ext cx="8496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"Los ojos de todos miran a Ti, Y tú les das su alimento a su tiempo. Abres tu mano, Y satisfaces el deseo de todo ser viviente"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(Salmo 145: 15, 1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ángulo 1"/>
          <p:cNvSpPr/>
          <p:nvPr/>
        </p:nvSpPr>
        <p:spPr>
          <a:xfrm>
            <a:off x="468360" y="1268280"/>
            <a:ext cx="813600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¡No, no! "Porque de tal manera amó Dios al mundo, que dio a su Hijo unigénito"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(San Juan 3: 16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Rectángulo 1"/>
          <p:cNvSpPr/>
          <p:nvPr/>
        </p:nvSpPr>
        <p:spPr>
          <a:xfrm>
            <a:off x="468360" y="2205000"/>
            <a:ext cx="820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No es que el Padre nos ame por causa de la gran propiciaci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ángulo 1"/>
          <p:cNvSpPr/>
          <p:nvPr/>
        </p:nvSpPr>
        <p:spPr>
          <a:xfrm>
            <a:off x="539640" y="1862280"/>
            <a:ext cx="835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Sino que proveyó la propiciación porque nos ama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ángulo 1"/>
          <p:cNvSpPr/>
          <p:nvPr/>
        </p:nvSpPr>
        <p:spPr>
          <a:xfrm>
            <a:off x="324000" y="1989000"/>
            <a:ext cx="85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Cristo, fue el medio por el cual Dios derramó su amor sobre un mundo caído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Rectángulo 1"/>
          <p:cNvSpPr/>
          <p:nvPr/>
        </p:nvSpPr>
        <p:spPr>
          <a:xfrm>
            <a:off x="324000" y="1557360"/>
            <a:ext cx="842472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"Dios estaba en Cristo, reconciliando consigo mismo al mundo" </a:t>
            </a:r>
            <a:br>
              <a:rPr sz="6000"/>
            </a:b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(2 Corintios 5: 19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ángulo 1"/>
          <p:cNvSpPr/>
          <p:nvPr/>
        </p:nvSpPr>
        <p:spPr>
          <a:xfrm>
            <a:off x="684360" y="1844640"/>
            <a:ext cx="7991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Dios sufrió con su Hij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n la agonía del Getseman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ángulo 1"/>
          <p:cNvSpPr/>
          <p:nvPr/>
        </p:nvSpPr>
        <p:spPr>
          <a:xfrm>
            <a:off x="611280" y="1268280"/>
            <a:ext cx="80643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n la muerte del Calvario, el corazón del Amor Infinito pagó el precio de nuestra redenció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Rectángulo 1"/>
          <p:cNvSpPr/>
          <p:nvPr/>
        </p:nvSpPr>
        <p:spPr>
          <a:xfrm>
            <a:off x="395280" y="1844640"/>
            <a:ext cx="8424720" cy="30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Jesús decía: </a:t>
            </a:r>
            <a:r>
              <a:rPr b="1" lang="es-ES" sz="5100" spc="-1" strike="noStrike">
                <a:solidFill>
                  <a:srgbClr val="000000"/>
                </a:solidFill>
                <a:latin typeface="Calibri"/>
              </a:rPr>
              <a:t>"Por esto el Padre me ama, por cuanto yo pongo mi vida para volverla a tomar" 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(San Juan 10: 17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ángulo 2"/>
          <p:cNvSpPr/>
          <p:nvPr/>
        </p:nvSpPr>
        <p:spPr>
          <a:xfrm>
            <a:off x="395280" y="1658880"/>
            <a:ext cx="8400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Es decir: </a:t>
            </a: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"De tal manera os amaba mi Padre, que ha dado mi vida para redimiros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Rectángulo 1"/>
          <p:cNvSpPr/>
          <p:nvPr/>
        </p:nvSpPr>
        <p:spPr>
          <a:xfrm>
            <a:off x="826920" y="1916280"/>
            <a:ext cx="7561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Por haberme hecho vuestro Sustituto y Fianz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ángulo 1"/>
          <p:cNvSpPr/>
          <p:nvPr/>
        </p:nvSpPr>
        <p:spPr>
          <a:xfrm>
            <a:off x="395280" y="1506600"/>
            <a:ext cx="8353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Dios hizo al hombre perfectamente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santo y feliz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Rectángulo 1"/>
          <p:cNvSpPr/>
          <p:nvPr/>
        </p:nvSpPr>
        <p:spPr>
          <a:xfrm>
            <a:off x="468360" y="1995480"/>
            <a:ext cx="8207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or haber entregado mi vida y tomado vuestras transgres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ángulo 1"/>
          <p:cNvSpPr/>
          <p:nvPr/>
        </p:nvSpPr>
        <p:spPr>
          <a:xfrm>
            <a:off x="826920" y="1700280"/>
            <a:ext cx="7561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Soy más caro a mi Padre; por mi sacrificio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ángulo 6"/>
          <p:cNvSpPr/>
          <p:nvPr/>
        </p:nvSpPr>
        <p:spPr>
          <a:xfrm>
            <a:off x="468360" y="2068560"/>
            <a:ext cx="813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Nadie sino el Hijo de Dios podía efectuar nuestra redenció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Rectángulo 1"/>
          <p:cNvSpPr/>
          <p:nvPr/>
        </p:nvSpPr>
        <p:spPr>
          <a:xfrm>
            <a:off x="468360" y="1628640"/>
            <a:ext cx="7991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Porque sólo él, que estaba  en el seno del Padre podía darlo a conocer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ángulo 1"/>
          <p:cNvSpPr/>
          <p:nvPr/>
        </p:nvSpPr>
        <p:spPr>
          <a:xfrm>
            <a:off x="684360" y="1628640"/>
            <a:ext cx="7902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Sólo Él, que conocía la altura y la profundidad del amor de Dios, podía manifestarl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ángulo 1"/>
          <p:cNvSpPr/>
          <p:nvPr/>
        </p:nvSpPr>
        <p:spPr>
          <a:xfrm>
            <a:off x="468360" y="1773360"/>
            <a:ext cx="8424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Nada menos que el infinito sacrificio hecho por Cristo en favor del hombre caí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podía expresar el amor del Padre hacia la perdida humanida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Rectángulo 1"/>
          <p:cNvSpPr/>
          <p:nvPr/>
        </p:nvSpPr>
        <p:spPr>
          <a:xfrm>
            <a:off x="468360" y="1862280"/>
            <a:ext cx="82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Porque de tal manera amó Dios al mundo, que dio a su Hijo unigénit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ángulo 1"/>
          <p:cNvSpPr/>
          <p:nvPr/>
        </p:nvSpPr>
        <p:spPr>
          <a:xfrm>
            <a:off x="539640" y="1916280"/>
            <a:ext cx="79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Lo dio no solamente para que viviese entre los hombr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ángulo 1"/>
          <p:cNvSpPr/>
          <p:nvPr/>
        </p:nvSpPr>
        <p:spPr>
          <a:xfrm>
            <a:off x="611280" y="134136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No sólo para que llevase los pecados de ellos y muriese como su sacrifici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Rectángulo 1"/>
          <p:cNvSpPr/>
          <p:nvPr/>
        </p:nvSpPr>
        <p:spPr>
          <a:xfrm>
            <a:off x="755640" y="1587600"/>
            <a:ext cx="770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Cristo debía identificarse con los intereses y necesidades de la humanidad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ángulo 1"/>
          <p:cNvSpPr/>
          <p:nvPr/>
        </p:nvSpPr>
        <p:spPr>
          <a:xfrm>
            <a:off x="324000" y="1341360"/>
            <a:ext cx="8569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La hermosa tierra no tenía</a:t>
            </a:r>
            <a:r>
              <a:rPr b="0" lang="es-VE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mancha de decadencia ni sombra de maldición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al salir de la mano del Creado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ángulo 1"/>
          <p:cNvSpPr/>
          <p:nvPr/>
        </p:nvSpPr>
        <p:spPr>
          <a:xfrm>
            <a:off x="395280" y="1525680"/>
            <a:ext cx="828036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El que era uno con Dios se ha unido con los homb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con lazos que jamás serán quebrantados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ángulo 1"/>
          <p:cNvSpPr/>
          <p:nvPr/>
        </p:nvSpPr>
        <p:spPr>
          <a:xfrm>
            <a:off x="395280" y="2133720"/>
            <a:ext cx="842472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Jesús "no se avergüenza de llamarlos hermanos" 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(Hebreos 2: 1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Rectángulo 1"/>
          <p:cNvSpPr/>
          <p:nvPr/>
        </p:nvSpPr>
        <p:spPr>
          <a:xfrm>
            <a:off x="539640" y="184464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s nuestro Sacrificio, nuestro Abogado, nuestro Herman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ángulo 1"/>
          <p:cNvSpPr/>
          <p:nvPr/>
        </p:nvSpPr>
        <p:spPr>
          <a:xfrm>
            <a:off x="468360" y="186228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Lleva nuestra forma humana delante del trono del Pad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ángulo 1"/>
          <p:cNvSpPr/>
          <p:nvPr/>
        </p:nvSpPr>
        <p:spPr>
          <a:xfrm>
            <a:off x="250920" y="1779480"/>
            <a:ext cx="864216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y por las edades eternas será uno con la raza que ha redimido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s el Hijo del hombre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Rectángulo 1"/>
          <p:cNvSpPr/>
          <p:nvPr/>
        </p:nvSpPr>
        <p:spPr>
          <a:xfrm>
            <a:off x="250920" y="1442880"/>
            <a:ext cx="871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Y todo esto para que el hombre fuese levantado de la ruina y degradación del pecad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ángulo 1"/>
          <p:cNvSpPr/>
          <p:nvPr/>
        </p:nvSpPr>
        <p:spPr>
          <a:xfrm>
            <a:off x="395280" y="1628640"/>
            <a:ext cx="8353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Para que reflejase el amor de Dios y participase del gozo de la santidad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ángulo 1"/>
          <p:cNvSpPr/>
          <p:nvPr/>
        </p:nvSpPr>
        <p:spPr>
          <a:xfrm>
            <a:off x="611280" y="1557360"/>
            <a:ext cx="792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El precio pagado por nuestra redención, el sacrificio infinito que hizo nuestro Padre celesti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Rectángulo 1"/>
          <p:cNvSpPr/>
          <p:nvPr/>
        </p:nvSpPr>
        <p:spPr>
          <a:xfrm>
            <a:off x="755640" y="177336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ntregar a su Hijo para que muriese por nosotr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ángulo 1"/>
          <p:cNvSpPr/>
          <p:nvPr/>
        </p:nvSpPr>
        <p:spPr>
          <a:xfrm>
            <a:off x="611280" y="1557360"/>
            <a:ext cx="792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Nos da un concepto elevado de lo que podemos ser hechos por Cristo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Rectángulo 1"/>
          <p:cNvSpPr/>
          <p:nvPr/>
        </p:nvSpPr>
        <p:spPr>
          <a:xfrm>
            <a:off x="395280" y="1425600"/>
            <a:ext cx="835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La transgresión de la ley de Dios, de la ley de amor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ha traído consigo dolor y muerte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Rectángulo 1"/>
          <p:cNvSpPr/>
          <p:nvPr/>
        </p:nvSpPr>
        <p:spPr>
          <a:xfrm>
            <a:off x="250920" y="1711440"/>
            <a:ext cx="864216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Al considerar el inspirado apóstol Juan 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"la altura, la profundidad y la anchura" del amor del Padre hacia la raza que perecía, se llena de alabanzas y reverenc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Rectángulo 1"/>
          <p:cNvSpPr/>
          <p:nvPr/>
        </p:nvSpPr>
        <p:spPr>
          <a:xfrm>
            <a:off x="324000" y="1741320"/>
            <a:ext cx="849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No pudiendo encontrar lenguaje conveniente en que expresar la grandeza de este am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ángulo 1"/>
          <p:cNvSpPr/>
          <p:nvPr/>
        </p:nvSpPr>
        <p:spPr>
          <a:xfrm>
            <a:off x="971640" y="2492280"/>
            <a:ext cx="725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¡exhorta al mundo a contemplarlo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ángulo 1"/>
          <p:cNvSpPr/>
          <p:nvPr/>
        </p:nvSpPr>
        <p:spPr>
          <a:xfrm>
            <a:off x="468360" y="1751040"/>
            <a:ext cx="828036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"¡Mirad cuál amor nos ha dado el Padre, que seamos llamados hijos de Dios!"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(1 San Juan 3: 1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Rectángulo 1"/>
          <p:cNvSpPr/>
          <p:nvPr/>
        </p:nvSpPr>
        <p:spPr>
          <a:xfrm>
            <a:off x="468360" y="2276640"/>
            <a:ext cx="813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¡Qué valioso hace esto al hombre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ángulo 1"/>
          <p:cNvSpPr/>
          <p:nvPr/>
        </p:nvSpPr>
        <p:spPr>
          <a:xfrm>
            <a:off x="539640" y="2060640"/>
            <a:ext cx="813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Por la transgresión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los hijos del hombre se hacen súbditos de Sataná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ángulo 1"/>
          <p:cNvSpPr/>
          <p:nvPr/>
        </p:nvSpPr>
        <p:spPr>
          <a:xfrm>
            <a:off x="611280" y="1384200"/>
            <a:ext cx="80643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Por la fe en el sacrificio reconciliador de Cristo, los hijos de Adán pueden ser hechos hijos de Dios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ángulo 1"/>
          <p:cNvSpPr/>
          <p:nvPr/>
        </p:nvSpPr>
        <p:spPr>
          <a:xfrm>
            <a:off x="611280" y="1628640"/>
            <a:ext cx="7921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Al revestirse de la naturaleza humana, Cristo eleva a la humanidad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ángulo 1"/>
          <p:cNvSpPr/>
          <p:nvPr/>
        </p:nvSpPr>
        <p:spPr>
          <a:xfrm>
            <a:off x="395280" y="1658880"/>
            <a:ext cx="8280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Los hombres caídos son colocados donde pueden, por la relación con Cris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Rectángulo 1"/>
          <p:cNvSpPr/>
          <p:nvPr/>
        </p:nvSpPr>
        <p:spPr>
          <a:xfrm>
            <a:off x="611280" y="2060640"/>
            <a:ext cx="792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Llegar a ser en verdad dignos del nombre de "hijos de Dios"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ángulo 1"/>
          <p:cNvSpPr/>
          <p:nvPr/>
        </p:nvSpPr>
        <p:spPr>
          <a:xfrm>
            <a:off x="395280" y="1555920"/>
            <a:ext cx="82803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in embargo, en medio del sufrimiento que resulta del pecado se manifiesta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amor de Dios</a:t>
            </a: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Rectángulo 1"/>
          <p:cNvSpPr/>
          <p:nvPr/>
        </p:nvSpPr>
        <p:spPr>
          <a:xfrm>
            <a:off x="539640" y="1851120"/>
            <a:ext cx="813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al amor es incomparable. ¡Hijos del Rey celestial! ¡Promesa preciosa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ángulo 1"/>
          <p:cNvSpPr/>
          <p:nvPr/>
        </p:nvSpPr>
        <p:spPr>
          <a:xfrm>
            <a:off x="468360" y="1646280"/>
            <a:ext cx="820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¡El incomparable amor de Dios para con un mundo que no lo amaba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Rectángulo 1"/>
          <p:cNvSpPr/>
          <p:nvPr/>
        </p:nvSpPr>
        <p:spPr>
          <a:xfrm>
            <a:off x="324000" y="1442880"/>
            <a:ext cx="835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Este pensamiento tiene un poder subyugador y cautiva el entendimiento a la voluntad de Dios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Rectángulo 1"/>
          <p:cNvSpPr/>
          <p:nvPr/>
        </p:nvSpPr>
        <p:spPr>
          <a:xfrm>
            <a:off x="395280" y="1851120"/>
            <a:ext cx="8569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5400" spc="-1" strike="noStrike">
                <a:solidFill>
                  <a:srgbClr val="000000"/>
                </a:solidFill>
                <a:latin typeface="Calibri"/>
                <a:ea typeface="Arial Unicode MS"/>
              </a:rPr>
              <a:t>Cuanto más estudiamos el carácter divino a la luz de la cruz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ángulo 1"/>
          <p:cNvSpPr/>
          <p:nvPr/>
        </p:nvSpPr>
        <p:spPr>
          <a:xfrm>
            <a:off x="611280" y="1596960"/>
            <a:ext cx="806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5400" spc="-1" strike="noStrike">
                <a:solidFill>
                  <a:srgbClr val="000000"/>
                </a:solidFill>
                <a:latin typeface="Calibri"/>
                <a:ea typeface="Arial Unicode MS"/>
              </a:rPr>
              <a:t>Más vemos la misericordia, la ternura y el perdón unidos a la equidad y la justic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Rectángulo 1"/>
          <p:cNvSpPr/>
          <p:nvPr/>
        </p:nvSpPr>
        <p:spPr>
          <a:xfrm>
            <a:off x="144360" y="1779480"/>
            <a:ext cx="882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VE" sz="5400" spc="-1" strike="noStrike">
                <a:solidFill>
                  <a:srgbClr val="000000"/>
                </a:solidFill>
                <a:latin typeface="Calibri"/>
              </a:rPr>
              <a:t>Más claramente discernimos pruebas innumerables de un amor infinit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Rectángulo 1"/>
          <p:cNvSpPr/>
          <p:nvPr/>
        </p:nvSpPr>
        <p:spPr>
          <a:xfrm>
            <a:off x="395280" y="1461960"/>
            <a:ext cx="856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4800" spc="-1" strike="noStrike">
                <a:solidFill>
                  <a:srgbClr val="000000"/>
                </a:solidFill>
                <a:latin typeface="Calibri"/>
              </a:rPr>
              <a:t>De una tierna piedad que sobrepuja la ardiente simpatía y los sentimientos de la madre para con su hijo extraviado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ángulo 1"/>
          <p:cNvSpPr/>
          <p:nvPr/>
        </p:nvSpPr>
        <p:spPr>
          <a:xfrm>
            <a:off x="108000" y="2205000"/>
            <a:ext cx="896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6600" spc="-1" strike="noStrike">
                <a:solidFill>
                  <a:srgbClr val="000000"/>
                </a:solidFill>
                <a:latin typeface="Calibri"/>
              </a:rPr>
              <a:t>Romperse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6600" spc="-1" strike="noStrike">
                <a:solidFill>
                  <a:srgbClr val="000000"/>
                </a:solidFill>
                <a:latin typeface="Calibri"/>
              </a:rPr>
              <a:t>puede todo lazo humano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Rectángulo 1"/>
          <p:cNvSpPr/>
          <p:nvPr/>
        </p:nvSpPr>
        <p:spPr>
          <a:xfrm>
            <a:off x="539640" y="2205000"/>
            <a:ext cx="806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6000" spc="-1" strike="noStrike">
                <a:solidFill>
                  <a:srgbClr val="000000"/>
                </a:solidFill>
                <a:latin typeface="Calibri"/>
              </a:rPr>
              <a:t>Separars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6000" spc="-1" strike="noStrike">
                <a:solidFill>
                  <a:srgbClr val="000000"/>
                </a:solidFill>
                <a:latin typeface="Calibri"/>
              </a:rPr>
              <a:t>el hermano del herman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Rectángulo 1"/>
          <p:cNvSpPr/>
          <p:nvPr/>
        </p:nvSpPr>
        <p:spPr>
          <a:xfrm>
            <a:off x="755640" y="2492280"/>
            <a:ext cx="770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6000" spc="-1" strike="noStrike">
                <a:solidFill>
                  <a:srgbClr val="000000"/>
                </a:solidFill>
                <a:latin typeface="Calibri"/>
              </a:rPr>
              <a:t>Olvidar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VE" sz="6000" spc="-1" strike="noStrike">
                <a:solidFill>
                  <a:srgbClr val="000000"/>
                </a:solidFill>
                <a:latin typeface="Calibri"/>
              </a:rPr>
              <a:t>la madre de sus hij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ángulo 1"/>
          <p:cNvSpPr/>
          <p:nvPr/>
        </p:nvSpPr>
        <p:spPr>
          <a:xfrm>
            <a:off x="539640" y="1515960"/>
            <a:ext cx="820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Calibri"/>
              </a:rPr>
              <a:t>Está escrito que  Dios maldijo la tier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Calibri"/>
              </a:rPr>
              <a:t>por causa del hombr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Calibri"/>
              </a:rPr>
              <a:t>en </a:t>
            </a: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Génesis 3: 17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ángulo 1"/>
          <p:cNvSpPr/>
          <p:nvPr/>
        </p:nvSpPr>
        <p:spPr>
          <a:xfrm>
            <a:off x="179280" y="2205000"/>
            <a:ext cx="878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VE" sz="6000" spc="-1" strike="noStrike">
                <a:solidFill>
                  <a:srgbClr val="000000"/>
                </a:solidFill>
                <a:latin typeface="Calibri"/>
              </a:rPr>
              <a:t>Varia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6000" spc="-1" strike="noStrike">
                <a:solidFill>
                  <a:srgbClr val="000000"/>
                </a:solidFill>
                <a:latin typeface="Calibri"/>
              </a:rPr>
              <a:t>los astros sus senderos fijo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ángulo 1"/>
          <p:cNvSpPr/>
          <p:nvPr/>
        </p:nvSpPr>
        <p:spPr>
          <a:xfrm>
            <a:off x="539640" y="1700280"/>
            <a:ext cx="820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6000" spc="-1" strike="noStrike">
                <a:solidFill>
                  <a:srgbClr val="000000"/>
                </a:solidFill>
                <a:latin typeface="Calibri"/>
              </a:rPr>
              <a:t>Mas ciertamente nunca cambiará El amor proveniente de Jehová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Rectángulo 1"/>
          <p:cNvSpPr/>
          <p:nvPr/>
        </p:nvSpPr>
        <p:spPr>
          <a:xfrm>
            <a:off x="468360" y="1484280"/>
            <a:ext cx="835164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Los cardos y las espina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las dificultades y pruebas que hacen de su vida una v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de afán y cuidado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ángulo 2"/>
          <p:cNvSpPr/>
          <p:nvPr/>
        </p:nvSpPr>
        <p:spPr>
          <a:xfrm>
            <a:off x="270000" y="4508640"/>
            <a:ext cx="8550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000" spc="-1" strike="noStrike">
                <a:solidFill>
                  <a:srgbClr val="000000"/>
                </a:solidFill>
                <a:latin typeface="Calibri"/>
              </a:rPr>
              <a:t>les fueron asignados por su bie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Rectángulo 1"/>
          <p:cNvSpPr/>
          <p:nvPr/>
        </p:nvSpPr>
        <p:spPr>
          <a:xfrm>
            <a:off x="755640" y="1484280"/>
            <a:ext cx="7632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como parte de la preparación para su elevación de la ruin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ángulo 1"/>
          <p:cNvSpPr/>
          <p:nvPr/>
        </p:nvSpPr>
        <p:spPr>
          <a:xfrm>
            <a:off x="611280" y="1765440"/>
            <a:ext cx="803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Calibri"/>
              </a:rPr>
              <a:t>que el pecado caus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ángulo 2"/>
          <p:cNvSpPr/>
          <p:nvPr/>
        </p:nvSpPr>
        <p:spPr>
          <a:xfrm>
            <a:off x="532080" y="3068640"/>
            <a:ext cx="819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Calibri"/>
              </a:rPr>
              <a:t>según el plan de Dio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ángulo 1"/>
          <p:cNvSpPr/>
          <p:nvPr/>
        </p:nvSpPr>
        <p:spPr>
          <a:xfrm>
            <a:off x="539640" y="1749600"/>
            <a:ext cx="799308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Calibri"/>
              </a:rPr>
              <a:t>El mundo, aunque caído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No es todo tristeza y miseria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ángulo 1"/>
          <p:cNvSpPr/>
          <p:nvPr/>
        </p:nvSpPr>
        <p:spPr>
          <a:xfrm>
            <a:off x="611280" y="981000"/>
            <a:ext cx="8118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  <a:ea typeface="Arial Unicode MS"/>
              </a:rPr>
              <a:t>La naturaleza y la revelación a una dan testimonio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  <a:ea typeface="Arial Unicode MS"/>
              </a:rPr>
              <a:t>del amor de </a:t>
            </a:r>
            <a:r>
              <a:rPr b="1" lang="es-ES" sz="7200" spc="-1" strike="noStrike">
                <a:solidFill>
                  <a:srgbClr val="000000"/>
                </a:solidFill>
                <a:latin typeface="Calibri"/>
                <a:ea typeface="Arial Unicode MS"/>
              </a:rPr>
              <a:t>Dios</a:t>
            </a:r>
            <a:r>
              <a:rPr b="1" lang="es-ES" sz="6600" spc="-1" strike="noStrike">
                <a:solidFill>
                  <a:srgbClr val="000000"/>
                </a:solidFill>
                <a:latin typeface="Calibri"/>
                <a:ea typeface="Arial Unicode MS"/>
              </a:rPr>
              <a:t>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Rectángulo 1"/>
          <p:cNvSpPr/>
          <p:nvPr/>
        </p:nvSpPr>
        <p:spPr>
          <a:xfrm>
            <a:off x="468360" y="171936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n la naturaleza misma hay mensajes de esperanza y consuelo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ángulo 1"/>
          <p:cNvSpPr/>
          <p:nvPr/>
        </p:nvSpPr>
        <p:spPr>
          <a:xfrm>
            <a:off x="611280" y="1433520"/>
            <a:ext cx="7921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Hay flores en los cardos y las espinas están cubiertas de rosas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ángulo 1"/>
          <p:cNvSpPr/>
          <p:nvPr/>
        </p:nvSpPr>
        <p:spPr>
          <a:xfrm>
            <a:off x="611280" y="1700280"/>
            <a:ext cx="806436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"Dios es amor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está escrito en cada capullo de flor que se abre, en cada tallo de la naciente hierba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Rectángulo 1"/>
          <p:cNvSpPr/>
          <p:nvPr/>
        </p:nvSpPr>
        <p:spPr>
          <a:xfrm>
            <a:off x="658800" y="1503360"/>
            <a:ext cx="7800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Los pájaros, que llenan el aire de melodías con sus preciosos canto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Rectángulo 1"/>
          <p:cNvSpPr/>
          <p:nvPr/>
        </p:nvSpPr>
        <p:spPr>
          <a:xfrm>
            <a:off x="539640" y="1790640"/>
            <a:ext cx="80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Las flores que en su perfección, perfuman el aire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ángulo 1"/>
          <p:cNvSpPr/>
          <p:nvPr/>
        </p:nvSpPr>
        <p:spPr>
          <a:xfrm>
            <a:off x="611280" y="1646280"/>
            <a:ext cx="792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Los árboles del bosque con su rico follaje de viviente verdor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ángulo 1"/>
          <p:cNvSpPr/>
          <p:nvPr/>
        </p:nvSpPr>
        <p:spPr>
          <a:xfrm>
            <a:off x="539640" y="1811160"/>
            <a:ext cx="806472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odos dan testimonio del tierno y paternal cuidado de nuestro </a:t>
            </a: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Dio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ángulo 1"/>
          <p:cNvSpPr/>
          <p:nvPr/>
        </p:nvSpPr>
        <p:spPr>
          <a:xfrm>
            <a:off x="611280" y="2006640"/>
            <a:ext cx="784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y de su dese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de hacer felices a sus hijo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ángulo 1"/>
          <p:cNvSpPr/>
          <p:nvPr/>
        </p:nvSpPr>
        <p:spPr>
          <a:xfrm>
            <a:off x="611280" y="1952640"/>
            <a:ext cx="792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a Palabra de Dios revela su carácter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Rectángulo 1"/>
          <p:cNvSpPr/>
          <p:nvPr/>
        </p:nvSpPr>
        <p:spPr>
          <a:xfrm>
            <a:off x="468360" y="1706400"/>
            <a:ext cx="828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Él mismo ha declarad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su infinito amor y piedad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ángulo 1"/>
          <p:cNvSpPr/>
          <p:nvPr/>
        </p:nvSpPr>
        <p:spPr>
          <a:xfrm>
            <a:off x="395280" y="1698480"/>
            <a:ext cx="8353440" cy="29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Nuestro Padre Celestial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s la fuente de vida, de sabiduría y de gozo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Rectángulo 1"/>
          <p:cNvSpPr/>
          <p:nvPr/>
        </p:nvSpPr>
        <p:spPr>
          <a:xfrm>
            <a:off x="684360" y="1955880"/>
            <a:ext cx="782928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Cuando Moisés dijo: </a:t>
            </a: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"Ruégote me permitas ver tu gloria"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ángulo 1"/>
          <p:cNvSpPr/>
          <p:nvPr/>
        </p:nvSpPr>
        <p:spPr>
          <a:xfrm>
            <a:off x="179280" y="1544760"/>
            <a:ext cx="871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Jehová respondió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"Yo haré que pase toda mi benignidad ante tu vista"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(Éxodo 33: 18, 1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ángulo 1"/>
          <p:cNvSpPr/>
          <p:nvPr/>
        </p:nvSpPr>
        <p:spPr>
          <a:xfrm>
            <a:off x="708480" y="2394000"/>
            <a:ext cx="772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800" spc="-1" strike="noStrike">
                <a:solidFill>
                  <a:srgbClr val="000000"/>
                </a:solidFill>
                <a:latin typeface="Calibri"/>
              </a:rPr>
              <a:t>¡Tal es su gloria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ángulo 1"/>
          <p:cNvSpPr/>
          <p:nvPr/>
        </p:nvSpPr>
        <p:spPr>
          <a:xfrm>
            <a:off x="324000" y="206532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Jehová pasó delante de Moisés y clam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ángulo 1"/>
          <p:cNvSpPr/>
          <p:nvPr/>
        </p:nvSpPr>
        <p:spPr>
          <a:xfrm>
            <a:off x="395280" y="1749600"/>
            <a:ext cx="835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"Jehová, Dios compasivo y clemente lento en iras y grande en misericordia y en Fidelidad…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Rectángulo 1"/>
          <p:cNvSpPr/>
          <p:nvPr/>
        </p:nvSpPr>
        <p:spPr>
          <a:xfrm>
            <a:off x="395280" y="1557360"/>
            <a:ext cx="835344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que usa de misericordia hasta la milésima generación; que perdona la iniquidad, la transgresión y el pecado"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(Éxodo 34: 6, 7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ángulo 1"/>
          <p:cNvSpPr/>
          <p:nvPr/>
        </p:nvSpPr>
        <p:spPr>
          <a:xfrm>
            <a:off x="684360" y="1974960"/>
            <a:ext cx="777528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"Lento en iras y grande en misericordia"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(Jonás 4: 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ángulo 1"/>
          <p:cNvSpPr/>
          <p:nvPr/>
        </p:nvSpPr>
        <p:spPr>
          <a:xfrm>
            <a:off x="826920" y="1892160"/>
            <a:ext cx="756144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"Porque se deleita en la misericordia"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(Miqueas 7: 18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Rectángulo 1"/>
          <p:cNvSpPr/>
          <p:nvPr/>
        </p:nvSpPr>
        <p:spPr>
          <a:xfrm>
            <a:off x="395280" y="2205000"/>
            <a:ext cx="8353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Dios ha unido nuestros corazones a Él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Rectángulo 1"/>
          <p:cNvSpPr/>
          <p:nvPr/>
        </p:nvSpPr>
        <p:spPr>
          <a:xfrm>
            <a:off x="395280" y="1557360"/>
            <a:ext cx="835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con innumerables pruebas en los cielos y en la tierra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ángulo 1"/>
          <p:cNvSpPr/>
          <p:nvPr/>
        </p:nvSpPr>
        <p:spPr>
          <a:xfrm>
            <a:off x="611280" y="1801800"/>
            <a:ext cx="7921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Mirad las maravilla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y bellezas de la naturaleza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ángulo 1"/>
          <p:cNvSpPr/>
          <p:nvPr/>
        </p:nvSpPr>
        <p:spPr>
          <a:xfrm>
            <a:off x="407880" y="1628640"/>
            <a:ext cx="828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Mediante la naturalez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Rectángulo 2"/>
          <p:cNvSpPr/>
          <p:nvPr/>
        </p:nvSpPr>
        <p:spPr>
          <a:xfrm>
            <a:off x="395280" y="2565360"/>
            <a:ext cx="828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y los más tiernos lazos que el corazón humano pueda conocer en la tierra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ángulo 1"/>
          <p:cNvSpPr/>
          <p:nvPr/>
        </p:nvSpPr>
        <p:spPr>
          <a:xfrm>
            <a:off x="684360" y="1587600"/>
            <a:ext cx="7775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Con todo, estas cosas sólo representan imperfectamente su amor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ángulo 1"/>
          <p:cNvSpPr/>
          <p:nvPr/>
        </p:nvSpPr>
        <p:spPr>
          <a:xfrm>
            <a:off x="468360" y="1822320"/>
            <a:ext cx="82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Aunque se habían dado pruebas evidentes, el enemigo del bien cegó el entendimiento de los homb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ángulo 1"/>
          <p:cNvSpPr/>
          <p:nvPr/>
        </p:nvSpPr>
        <p:spPr>
          <a:xfrm>
            <a:off x="468360" y="162864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ara que éstos mirasen a Dios con temor, para que lo considerasen severo e implacabl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ángulo 1"/>
          <p:cNvSpPr/>
          <p:nvPr/>
        </p:nvSpPr>
        <p:spPr>
          <a:xfrm>
            <a:off x="324000" y="1414440"/>
            <a:ext cx="842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Satanás indujo a los hombres a concebir a Dios como un ser cuyo principal atributo es una justicia inexora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ángulo 1"/>
          <p:cNvSpPr/>
          <p:nvPr/>
        </p:nvSpPr>
        <p:spPr>
          <a:xfrm>
            <a:off x="1619280" y="1773360"/>
            <a:ext cx="590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como un juez severo, un duro, estricto acreedor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ángulo 1"/>
          <p:cNvSpPr/>
          <p:nvPr/>
        </p:nvSpPr>
        <p:spPr>
          <a:xfrm>
            <a:off x="395280" y="1414440"/>
            <a:ext cx="842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intó al Creador como un ser que está velando con ojo celoso por discernir las faltas de los hombres, para visitarlos con juicio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ángulo 1"/>
          <p:cNvSpPr/>
          <p:nvPr/>
        </p:nvSpPr>
        <p:spPr>
          <a:xfrm>
            <a:off x="900000" y="206532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Por esto vino Jesús a vivir entre los hombr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ángulo 1"/>
          <p:cNvSpPr/>
          <p:nvPr/>
        </p:nvSpPr>
        <p:spPr>
          <a:xfrm>
            <a:off x="468360" y="1773360"/>
            <a:ext cx="828036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Para disipar esa densa sombra, revelando al mundo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amor infinito de Dios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Rectángulo 1"/>
          <p:cNvSpPr/>
          <p:nvPr/>
        </p:nvSpPr>
        <p:spPr>
          <a:xfrm>
            <a:off x="755640" y="1628640"/>
            <a:ext cx="77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l Hijo de Dios descendió del cielo para manifestar al Padr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ángulo 1"/>
          <p:cNvSpPr/>
          <p:nvPr/>
        </p:nvSpPr>
        <p:spPr>
          <a:xfrm>
            <a:off x="395280" y="1628640"/>
            <a:ext cx="84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ensad en su prodigiosa adaptación a las necesidades y a la felicidad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Rectángulo 2"/>
          <p:cNvSpPr/>
          <p:nvPr/>
        </p:nvSpPr>
        <p:spPr>
          <a:xfrm>
            <a:off x="539640" y="2932200"/>
            <a:ext cx="813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no solamente del hombre, sino de todas las criaturas vivient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ángulo 1"/>
          <p:cNvSpPr/>
          <p:nvPr/>
        </p:nvSpPr>
        <p:spPr>
          <a:xfrm>
            <a:off x="539640" y="1290600"/>
            <a:ext cx="813600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"A Dios nadie jamás le ha visto: el Hijo unigénito, que está en el seno del Padre, él le ha dado a conocer"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(San Juan 1: 18)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ángulo 2"/>
          <p:cNvSpPr/>
          <p:nvPr/>
        </p:nvSpPr>
        <p:spPr>
          <a:xfrm>
            <a:off x="468360" y="1677960"/>
            <a:ext cx="820728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"Ni al Padre conoce nadie, sino el Hijo, y aquel a quien el Hijo lo quisiere revelar". 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(San Mateo 11: 2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ángulo 1"/>
          <p:cNvSpPr/>
          <p:nvPr/>
        </p:nvSpPr>
        <p:spPr>
          <a:xfrm>
            <a:off x="468360" y="2098800"/>
            <a:ext cx="820728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Cuando uno de s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discípulos le dijo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"Muéstranos al Padre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ángulo 1"/>
          <p:cNvSpPr/>
          <p:nvPr/>
        </p:nvSpPr>
        <p:spPr>
          <a:xfrm>
            <a:off x="324000" y="1413000"/>
            <a:ext cx="849600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Jesús respondió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"Tanto tiempo hace que estoy con vosotros, ¿y todavía no me conoces, Felipe?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ángulo 1"/>
          <p:cNvSpPr/>
          <p:nvPr/>
        </p:nvSpPr>
        <p:spPr>
          <a:xfrm>
            <a:off x="468360" y="1341360"/>
            <a:ext cx="828036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l que me ha visto a mí, ha visto al Padre: ¿Cómo pues dices tú: Muéstranos al Padre?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(San Juan 14: 8, 9, 1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ángulo 1"/>
          <p:cNvSpPr/>
          <p:nvPr/>
        </p:nvSpPr>
        <p:spPr>
          <a:xfrm>
            <a:off x="324000" y="1893960"/>
            <a:ext cx="8424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"/>
              </a:rPr>
              <a:t>Jesús dijo, describiendo su misión terrenal: “Jehová me ha ungido para anunciar buenas nuevas a los pobres…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ángulo 1"/>
          <p:cNvSpPr/>
          <p:nvPr/>
        </p:nvSpPr>
        <p:spPr>
          <a:xfrm>
            <a:off x="468360" y="1414440"/>
            <a:ext cx="8136000" cy="44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“…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me ha enviado para proclamar a los cautivos, y a los ciegos recobro la vista para poner en libertad a los oprimidos"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(s. Lucas 4: 18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Ésta era su obra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ángulo 1"/>
          <p:cNvSpPr/>
          <p:nvPr/>
        </p:nvSpPr>
        <p:spPr>
          <a:xfrm>
            <a:off x="684360" y="1851120"/>
            <a:ext cx="784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asó haciendo bien y sanando a todos los oprimidos de Satanás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ángulo 1"/>
          <p:cNvSpPr/>
          <p:nvPr/>
        </p:nvSpPr>
        <p:spPr>
          <a:xfrm>
            <a:off x="468360" y="1989000"/>
            <a:ext cx="8207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Había aldeas enteras donde no se oía un gemido de dolor en casa alguna, </a:t>
            </a:r>
            <a:r>
              <a:rPr b="1" lang="es-ES" sz="4400" spc="-1" strike="noStrike">
                <a:solidFill>
                  <a:srgbClr val="000000"/>
                </a:solidFill>
                <a:latin typeface="Calibri"/>
              </a:rPr>
              <a:t>porque él había pasado por ellas y sanado a todos sus enferm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ángulo 1"/>
          <p:cNvSpPr/>
          <p:nvPr/>
        </p:nvSpPr>
        <p:spPr>
          <a:xfrm>
            <a:off x="611280" y="2205000"/>
            <a:ext cx="7921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Su obra demostraba su divina unción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Rectángulo 1"/>
          <p:cNvSpPr/>
          <p:nvPr/>
        </p:nvSpPr>
        <p:spPr>
          <a:xfrm>
            <a:off x="395280" y="1657440"/>
            <a:ext cx="82803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El sol y la lluvia que alegran y refrescan la tierr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ángulo 1"/>
          <p:cNvSpPr/>
          <p:nvPr/>
        </p:nvSpPr>
        <p:spPr>
          <a:xfrm>
            <a:off x="324000" y="1773360"/>
            <a:ext cx="842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n cada acto de su vida revelaba amor, misericordia y compasi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ángulo 1"/>
          <p:cNvSpPr/>
          <p:nvPr/>
        </p:nvSpPr>
        <p:spPr>
          <a:xfrm>
            <a:off x="611280" y="1989000"/>
            <a:ext cx="792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Su corazón rebosaba de tierna simpatía por los hijos de los hombres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ángulo 1"/>
          <p:cNvSpPr/>
          <p:nvPr/>
        </p:nvSpPr>
        <p:spPr>
          <a:xfrm>
            <a:off x="468360" y="1484280"/>
            <a:ext cx="828036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  <a:ea typeface="Arial Unicode MS"/>
              </a:rPr>
              <a:t>Tomó la naturaleza del hombr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Calibri"/>
                <a:ea typeface="Arial Unicode MS"/>
              </a:rPr>
              <a:t>para poder simpatizar con sus necesidades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ángulo 1"/>
          <p:cNvSpPr/>
          <p:nvPr/>
        </p:nvSpPr>
        <p:spPr>
          <a:xfrm>
            <a:off x="395280" y="1700280"/>
            <a:ext cx="842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Calibri"/>
              </a:rPr>
              <a:t>Los más pobr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Calibri"/>
              </a:rPr>
              <a:t>y humildes no tenían temor de allegársele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ángulo 1"/>
          <p:cNvSpPr/>
          <p:nvPr/>
        </p:nvSpPr>
        <p:spPr>
          <a:xfrm>
            <a:off x="611280" y="1700280"/>
            <a:ext cx="78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Calibri"/>
              </a:rPr>
              <a:t>Aun los niñitos se sentían atraídos hacia Él.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ángulo 1"/>
          <p:cNvSpPr/>
          <p:nvPr/>
        </p:nvSpPr>
        <p:spPr>
          <a:xfrm>
            <a:off x="468360" y="1700280"/>
            <a:ext cx="82803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Les gustaba subir a sus rodilla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y contemplar ese rostro pensativo que irradiab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Calibri"/>
              </a:rPr>
              <a:t>benignidad y amor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ángulo 1"/>
          <p:cNvSpPr/>
          <p:nvPr/>
        </p:nvSpPr>
        <p:spPr>
          <a:xfrm>
            <a:off x="395280" y="1557360"/>
            <a:ext cx="8353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Jesús no suprimió una palabra de verdad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sino que prefirió siempre la verdad con amor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ángulo 1"/>
          <p:cNvSpPr/>
          <p:nvPr/>
        </p:nvSpPr>
        <p:spPr>
          <a:xfrm>
            <a:off x="468360" y="1741320"/>
            <a:ext cx="820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Hablaba con el mayor tacto, cuidado y misericordiosa atención, en su trato con las personas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ángulo 1"/>
          <p:cNvSpPr/>
          <p:nvPr/>
        </p:nvSpPr>
        <p:spPr>
          <a:xfrm>
            <a:off x="395280" y="1916280"/>
            <a:ext cx="8353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Nunca fue áspero, nunca habló una palabra severa innecesariament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ángulo 1"/>
          <p:cNvSpPr/>
          <p:nvPr/>
        </p:nvSpPr>
        <p:spPr>
          <a:xfrm>
            <a:off x="611280" y="1916280"/>
            <a:ext cx="792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Nunca dio a un alma sensible una pena innecesaria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ángulo 1"/>
          <p:cNvSpPr/>
          <p:nvPr/>
        </p:nvSpPr>
        <p:spPr>
          <a:xfrm>
            <a:off x="611280" y="1413000"/>
            <a:ext cx="8047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Los montes, los mares y los valles, todos nos hablan del amor del Creador.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ángulo 1"/>
          <p:cNvSpPr/>
          <p:nvPr/>
        </p:nvSpPr>
        <p:spPr>
          <a:xfrm>
            <a:off x="395280" y="220500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No censurab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la debilidad humana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ángulo 1"/>
          <p:cNvSpPr/>
          <p:nvPr/>
        </p:nvSpPr>
        <p:spPr>
          <a:xfrm>
            <a:off x="755640" y="2354400"/>
            <a:ext cx="77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Hablaba la verdad, pero siempre con amor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ángulo 1"/>
          <p:cNvSpPr/>
          <p:nvPr/>
        </p:nvSpPr>
        <p:spPr>
          <a:xfrm>
            <a:off x="324000" y="1773360"/>
            <a:ext cx="835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Denunciaba la hipocresía, la incredulidad y la iniquidad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ángulo 1"/>
          <p:cNvSpPr/>
          <p:nvPr/>
        </p:nvSpPr>
        <p:spPr>
          <a:xfrm>
            <a:off x="250920" y="1935000"/>
            <a:ext cx="864216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pero las lágrimas velaban su voz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cuando profería sus fuertes reprension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ángulo 1"/>
          <p:cNvSpPr/>
          <p:nvPr/>
        </p:nvSpPr>
        <p:spPr>
          <a:xfrm>
            <a:off x="324000" y="1884240"/>
            <a:ext cx="849600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Lloró sobre Jerusalén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alibri"/>
              </a:rPr>
              <a:t>la ciudad amada que rehusó recibirlo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a Él, el Camino, la  Verdad y la Vida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ángulo 1"/>
          <p:cNvSpPr/>
          <p:nvPr/>
        </p:nvSpPr>
        <p:spPr>
          <a:xfrm>
            <a:off x="324000" y="1779480"/>
            <a:ext cx="85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Calibri"/>
              </a:rPr>
              <a:t>Habían rechazado al Salvador, </a:t>
            </a: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mas Él los consideraba con piadosa ternura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ángulo 1"/>
          <p:cNvSpPr/>
          <p:nvPr/>
        </p:nvSpPr>
        <p:spPr>
          <a:xfrm>
            <a:off x="539640" y="2006640"/>
            <a:ext cx="80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La suya fue una vida de abnegación y verdadera solicitud por los demás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ángulo 1"/>
          <p:cNvSpPr/>
          <p:nvPr/>
        </p:nvSpPr>
        <p:spPr>
          <a:xfrm>
            <a:off x="1116000" y="1484280"/>
            <a:ext cx="734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200" spc="-1" strike="noStrike">
                <a:solidFill>
                  <a:srgbClr val="000000"/>
                </a:solidFill>
                <a:latin typeface="Calibri"/>
              </a:rPr>
              <a:t>Toda alma era preciosa a sus ojos.</a:t>
            </a: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ángulo 1"/>
          <p:cNvSpPr/>
          <p:nvPr/>
        </p:nvSpPr>
        <p:spPr>
          <a:xfrm>
            <a:off x="900000" y="1773360"/>
            <a:ext cx="748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A la vez que siempre llevaba consigo la dignidad divi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ángulo 1"/>
          <p:cNvSpPr/>
          <p:nvPr/>
        </p:nvSpPr>
        <p:spPr>
          <a:xfrm>
            <a:off x="71280" y="1689120"/>
            <a:ext cx="90378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se inclinaba con tierna consider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hacia cada uno de los miembros de la familia de Dios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ángulo 1"/>
          <p:cNvSpPr/>
          <p:nvPr/>
        </p:nvSpPr>
        <p:spPr>
          <a:xfrm>
            <a:off x="539640" y="1557360"/>
            <a:ext cx="813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Dios es el que suple las necesidades diarias de todas sus criaturas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ángulo 1"/>
          <p:cNvSpPr/>
          <p:nvPr/>
        </p:nvSpPr>
        <p:spPr>
          <a:xfrm>
            <a:off x="324000" y="1731960"/>
            <a:ext cx="856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n todos los hombres veía almas caídas, a quienes era su misión salvar.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ángulo 1"/>
          <p:cNvSpPr/>
          <p:nvPr/>
        </p:nvSpPr>
        <p:spPr>
          <a:xfrm>
            <a:off x="826920" y="1851120"/>
            <a:ext cx="763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Tal es el carácter de Cristo como se revela en su vida.</a:t>
            </a:r>
            <a:r>
              <a:rPr b="1" lang="es-E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ángulo 1"/>
          <p:cNvSpPr/>
          <p:nvPr/>
        </p:nvSpPr>
        <p:spPr>
          <a:xfrm>
            <a:off x="324000" y="1989000"/>
            <a:ext cx="85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Del corazón del Padre es de donde emanan los ríos de compasión divi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Rectángulo 1"/>
          <p:cNvSpPr/>
          <p:nvPr/>
        </p:nvSpPr>
        <p:spPr>
          <a:xfrm>
            <a:off x="539640" y="1862280"/>
            <a:ext cx="79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manifestada en Cristo para todos los hijos de los hombres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ángulo 1"/>
          <p:cNvSpPr/>
          <p:nvPr/>
        </p:nvSpPr>
        <p:spPr>
          <a:xfrm>
            <a:off x="250920" y="1546200"/>
            <a:ext cx="864216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Jesús el tierno y piadoso Salvador, era Dios "manifestado en la carne"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(1 Timoteo 3: 1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ángulo 1"/>
          <p:cNvSpPr/>
          <p:nvPr/>
        </p:nvSpPr>
        <p:spPr>
          <a:xfrm>
            <a:off x="468360" y="2276640"/>
            <a:ext cx="82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Jesús vivió, sufrió y murió para redimirnos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ángulo 1"/>
          <p:cNvSpPr/>
          <p:nvPr/>
        </p:nvSpPr>
        <p:spPr>
          <a:xfrm>
            <a:off x="1187280" y="2065320"/>
            <a:ext cx="705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Él se hiz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"Varón de dolores"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ángulo 1"/>
          <p:cNvSpPr/>
          <p:nvPr/>
        </p:nvSpPr>
        <p:spPr>
          <a:xfrm>
            <a:off x="539640" y="1773360"/>
            <a:ext cx="80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ara que nosotros fuésemos hechos participantes del gozo eterno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ángulo 1"/>
          <p:cNvSpPr/>
          <p:nvPr/>
        </p:nvSpPr>
        <p:spPr>
          <a:xfrm>
            <a:off x="539640" y="1341360"/>
            <a:ext cx="8136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Dios permitió que su Hijo amado, lleno de gracia y de verdad, viniese de un mundo de indescriptible gloria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Rectángulo 1"/>
          <p:cNvSpPr/>
          <p:nvPr/>
        </p:nvSpPr>
        <p:spPr>
          <a:xfrm>
            <a:off x="468360" y="1700280"/>
            <a:ext cx="8207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a un mundo corrupto y manchado por el pecado, oscurecido con la sombra de la muerte y la maldición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ángulo 1"/>
          <p:cNvSpPr/>
          <p:nvPr/>
        </p:nvSpPr>
        <p:spPr>
          <a:xfrm>
            <a:off x="395280" y="1413000"/>
            <a:ext cx="813744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Calibri"/>
              </a:rPr>
              <a:t>El salmista lo dijo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Calibri"/>
              </a:rPr>
              <a:t>en las bellas palabras escritas e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6600" spc="-1" strike="noStrike">
                <a:solidFill>
                  <a:srgbClr val="000000"/>
                </a:solidFill>
                <a:latin typeface="Calibri"/>
              </a:rPr>
              <a:t>Salmo 145: 15, 16</a:t>
            </a:r>
            <a:r>
              <a:rPr b="0" lang="es-ES" sz="6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ángulo 1"/>
          <p:cNvSpPr/>
          <p:nvPr/>
        </p:nvSpPr>
        <p:spPr>
          <a:xfrm>
            <a:off x="468360" y="1700280"/>
            <a:ext cx="82803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Permitió que dejase el seno de su amor, la adoración de los ángeles, </a:t>
            </a: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para sufrir vergüenza, insultos, humillación, odio y muerte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ángulo 1"/>
          <p:cNvSpPr/>
          <p:nvPr/>
        </p:nvSpPr>
        <p:spPr>
          <a:xfrm>
            <a:off x="468360" y="1700280"/>
            <a:ext cx="828036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"El castigo de nuestra paz cayó sobre él, y por sus llagas nosotros sanamos"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(Isaías 53: 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ángulo 1"/>
          <p:cNvSpPr/>
          <p:nvPr/>
        </p:nvSpPr>
        <p:spPr>
          <a:xfrm>
            <a:off x="611280" y="1844640"/>
            <a:ext cx="79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¡Miradlo en el desierto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n el Getsemaní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sobre la cruz!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ángulo 1"/>
          <p:cNvSpPr/>
          <p:nvPr/>
        </p:nvSpPr>
        <p:spPr>
          <a:xfrm>
            <a:off x="539640" y="2060640"/>
            <a:ext cx="80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l Hijo inmaculado de Dios tomó sobre sí la carga del pecado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Rectángulo 1"/>
          <p:cNvSpPr/>
          <p:nvPr/>
        </p:nvSpPr>
        <p:spPr>
          <a:xfrm>
            <a:off x="468360" y="1515960"/>
            <a:ext cx="8207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l que había sido uno con Dios, sintió en su alma la terrible separaci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ángulo 1"/>
          <p:cNvSpPr/>
          <p:nvPr/>
        </p:nvSpPr>
        <p:spPr>
          <a:xfrm>
            <a:off x="468360" y="1916280"/>
            <a:ext cx="8207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La misma que hace el pecado entre  Dios y el hombre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ángulo 2"/>
          <p:cNvSpPr/>
          <p:nvPr/>
        </p:nvSpPr>
        <p:spPr>
          <a:xfrm>
            <a:off x="324000" y="1598760"/>
            <a:ext cx="84960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Calibri"/>
              </a:rPr>
              <a:t>Esto arrancó de sus labios el angustioso clamor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"¡Dios mío! ¡Dios mío! ¿por qué me has desamparado?"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Calibri"/>
              </a:rPr>
              <a:t>(San Mateo 27: 46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ángulo 1"/>
          <p:cNvSpPr/>
          <p:nvPr/>
        </p:nvSpPr>
        <p:spPr>
          <a:xfrm>
            <a:off x="179280" y="1628640"/>
            <a:ext cx="878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La carga del pecado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000000"/>
                </a:solidFill>
                <a:latin typeface="Calibri"/>
              </a:rPr>
              <a:t>el conocimiento de su terrible enormidad y la separación entre el alma y Di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ángulo 1"/>
          <p:cNvSpPr/>
          <p:nvPr/>
        </p:nvSpPr>
        <p:spPr>
          <a:xfrm>
            <a:off x="324000" y="1922400"/>
            <a:ext cx="856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Todo esto quebrant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el corazón del Hijo de Dio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ángulo 1"/>
          <p:cNvSpPr/>
          <p:nvPr/>
        </p:nvSpPr>
        <p:spPr>
          <a:xfrm>
            <a:off x="250920" y="1587600"/>
            <a:ext cx="8642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Pero este gran sacrificio no fue hecho a fin de crear amor en el corazón del Padre para con el hombre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1T17:26:12Z</dcterms:created>
  <dc:creator>Orlando Rosales</dc:creator>
  <dc:description/>
  <dc:language>en-US</dc:language>
  <cp:lastModifiedBy>Karina de Martin</cp:lastModifiedBy>
  <dcterms:modified xsi:type="dcterms:W3CDTF">2017-03-09T13:05:19Z</dcterms:modified>
  <cp:revision>54</cp:revision>
  <dc:subject/>
  <dc:title>CAPÍTULO 1. Amor Supremo*</dc:title>
</cp:coreProperties>
</file>